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298-E74A-4213-9D85-C32B6BC7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E58-C7BA-4CC3-8C18-FC6C23CA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A04-C875-457A-9278-5A45553E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3106-A20C-47F0-88F3-21A3C39C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66D-0D77-425D-A4BE-F1153707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13C-E97D-41EB-90EC-2129C65C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CBD-0EF3-44A9-B7AB-64738ABA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7E8-A86E-4FF4-9F2B-F8160DAC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8C6-EF9B-4AAE-A436-4546249E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5EBB-0E04-4F25-A6BF-25E3BBC8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961A-BE51-4A30-B0F7-F7B25384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BE1-39F8-4BA7-B3FA-3CFF9A44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6C81-979B-45ED-BB63-A0D099EB7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et Entry Fee Assistance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ific Swimming will pay the per event entry fees to Pacific swim meets for outreach swi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gibility – Registered USA-S out reach swimmers or swimmers who show proof meeting the USA-S out reach crit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for Pacific meets using Swim Connection OME and charging participation fee by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gible swimmers pay only the splash fee for a meet - $8 for SC and $10 for 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et Entry Fee Assistance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 program will be for a trial period of no more than 6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ding source: Budgeted 2014-15 Diversity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of Progra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ptance and adoption of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 Entry process flow in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nt of no shows among program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get adjus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 E F A P -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mm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MEFAB Entry Card from PacSwim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Entry Card when the meet is posted on PacSwim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l completed card with a check for Splash fee to PacSwim Mee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ill be no online entry for MEF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 E F A P -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Swim Offi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swimmer and event entries into Swim Connection OME for the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swimmer info into meet tracking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n close of entry, send list of MEFAB swimmers and number of events to Meet Host and PacSwim Treas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Upon completion of meet tally MEFAB swimmers who no showed at m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 E F A P -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 Host: Upon completion of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 out Meet Financial Report Form as u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h MEFAB  Summary form if there are MEFAB swi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the MEFAB deduction from the amount due Pacific Swimming to derived Adjusted Total d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check for Adjusted Total due Pacific Swimming along with Meet Financial report to Treasurer within 30 days after the m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2T00:59:38Z</dcterms:created>
  <dc:creator>Leo</dc:creator>
  <dc:description/>
  <dc:language>en-US</dc:language>
  <cp:lastModifiedBy>Leo</cp:lastModifiedBy>
  <dcterms:modified xsi:type="dcterms:W3CDTF">2015-07-02T01:57:42Z</dcterms:modified>
  <cp:revision>8</cp:revision>
  <dc:subject/>
  <dc:title>Slide 1</dc:title>
</cp:coreProperties>
</file>